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5C7-9589-45BD-A009-E7021682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88E-200F-46FB-8A93-DCCE2D55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81A-2256-4BF0-9AD0-EEAD6BD0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D39-706D-4472-AEC1-591B0F73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897-D61B-42AC-9C71-68EE63E9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E5A-D8DC-4DF5-B897-51F0DECB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B0D-DA66-4A34-AC97-C59F5D4A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17C-2E36-44ED-8C76-30631A11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0B7-1F9A-4581-9565-0A92408D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555-F588-4D6D-AA9A-945E925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5E5-47AC-40A8-B744-F5A95AE8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3F4-D312-4A35-85E4-772A7188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4CAA-A1FF-4C26-880A-51934CC32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066160" cy="113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1680" y="1789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3646440" cy="43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8458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224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7659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20:41Z</dcterms:created>
  <dc:creator>Graham</dc:creator>
  <dc:description/>
  <dc:language>en-US</dc:language>
  <cp:lastModifiedBy>Graham</cp:lastModifiedBy>
  <dcterms:modified xsi:type="dcterms:W3CDTF">2012-08-08T12:18:49Z</dcterms:modified>
  <cp:revision>2</cp:revision>
  <dc:subject/>
  <dc:title>Slide 1</dc:title>
</cp:coreProperties>
</file>